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31800" y="392940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1504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2840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5360" y="138888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3180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2840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5360" y="3929400"/>
            <a:ext cx="237744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33240" y="236160"/>
            <a:ext cx="73818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5040" y="392940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5040" y="1388880"/>
            <a:ext cx="36028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31800" y="3929400"/>
            <a:ext cx="73836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63760" y="1214280"/>
            <a:ext cx="8442360" cy="0"/>
          </a:xfrm>
          <a:prstGeom prst="line">
            <a:avLst/>
          </a:prstGeom>
          <a:ln w="2232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2" marL="1184400" indent="-29232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56528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4" marL="19461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5" marL="19461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6" marL="19461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46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114560" y="1104840"/>
            <a:ext cx="777960" cy="719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114560" y="2171880"/>
            <a:ext cx="777960" cy="718920"/>
          </a:xfrm>
          <a:prstGeom prst="ellipse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14560" y="3162240"/>
            <a:ext cx="777960" cy="71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114560" y="4152960"/>
            <a:ext cx="777960" cy="71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114560" y="4991040"/>
            <a:ext cx="777960" cy="7192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194840" y="2311560"/>
            <a:ext cx="777960" cy="718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0194840" y="1244520"/>
            <a:ext cx="777960" cy="719280"/>
          </a:xfrm>
          <a:prstGeom prst="ellipse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94840" y="4292640"/>
            <a:ext cx="777960" cy="718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194840" y="3301920"/>
            <a:ext cx="777960" cy="71928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0194840" y="5130720"/>
            <a:ext cx="777960" cy="7192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09800" y="5749920"/>
            <a:ext cx="127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Infineon</a:t>
            </a:r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COM CPE</a:t>
            </a:r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Page </a:t>
            </a:r>
            <a:fld id="{4F4B1ED7-9B3F-4404-A963-AD7EBAAECFED}" type="slidenum">
              <a:rPr b="0" lang="en-US" sz="1200" spc="-1" strike="noStrike">
                <a:solidFill>
                  <a:srgbClr val="001e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488960" y="6637320"/>
            <a:ext cx="84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3208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1e64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1e64"/>
                </a:solidFill>
                <a:latin typeface="Arial"/>
              </a:rPr>
              <a:t>2005 Infineon Technologies – COM</a:t>
            </a:r>
            <a:r>
              <a:rPr b="0" lang="en-US" sz="10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1e64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376280" y="6616800"/>
            <a:ext cx="852984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7760" y="0"/>
            <a:ext cx="99838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77760" y="0"/>
            <a:ext cx="1555560" cy="6858000"/>
          </a:xfrm>
          <a:prstGeom prst="rect">
            <a:avLst/>
          </a:prstGeom>
          <a:solidFill>
            <a:srgbClr val="0b4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11400">
            <a:off x="-2851200" y="2773080"/>
            <a:ext cx="66294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ee9fe"/>
                </a:solidFill>
                <a:latin typeface="Arial"/>
              </a:rPr>
              <a:t>Infineon</a:t>
            </a:r>
            <a:endParaRPr b="0" lang="en-US" sz="9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806560"/>
            <a:ext cx="6357960" cy="420840"/>
          </a:xfrm>
          <a:prstGeom prst="rect">
            <a:avLst/>
          </a:prstGeom>
          <a:solidFill>
            <a:srgbClr val="0b4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281400"/>
            <a:ext cx="38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e64"/>
                </a:solidFill>
                <a:latin typeface="Arial Narrow"/>
              </a:rPr>
              <a:t>5 and 6 Port </a:t>
            </a: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e64"/>
                </a:solidFill>
                <a:latin typeface="Arial Narrow"/>
              </a:rPr>
              <a:t>Ethernet Switches</a:t>
            </a: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7520" y="2782800"/>
            <a:ext cx="61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ee9fe"/>
                </a:solidFill>
                <a:latin typeface="Arial"/>
                <a:ea typeface="新細明體"/>
              </a:rPr>
              <a:t>January 2005</a:t>
            </a: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1889280"/>
            <a:ext cx="30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64"/>
                </a:solidFill>
                <a:latin typeface="Arial Narrow"/>
              </a:rPr>
              <a:t>ADM6996L/F/5L</a:t>
            </a:r>
            <a:endParaRPr b="0" lang="en-US" sz="3600" spc="-1" strike="noStrike">
              <a:solidFill>
                <a:srgbClr val="001e64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39720" y="3446640"/>
          <a:ext cx="2851200" cy="20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9720" y="3446640"/>
                    <a:ext cx="28512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71320" y="321840"/>
            <a:ext cx="843444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DM6995L/6L/6F L2 Ethernet Switch Family Product Highlights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>
            <a:off x="1530360" y="3754440"/>
            <a:ext cx="42307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Product Features 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Four Queues for QoS and three types of Class of Service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Per Port Counter, Status &amp; Enable/Disable, Bandwidth control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Comprehensive OAM, providing Packet Filter, Classify, and Tagging with Protocol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3680" y="3787920"/>
            <a:ext cx="4176720" cy="23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Benefits 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Complete low port L2 Ethernet Switch family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536400" indent="-17604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ADM6995L – 5 10/100 Mbps Ports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536400" indent="-17604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ADM6996L – 5 10/100 Mbps Ports + 1 MII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536400" indent="-17604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ADM6996F – 4 10/100 Mbps Ports + 2 MII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Highly integrated 4/5 port Ethernet Switch on Chip (Controller, PHY and Memory)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Targets flexible low port switch applications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Low cost economical solution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2880" y="3738600"/>
            <a:ext cx="8463240" cy="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11840" y="1206360"/>
            <a:ext cx="0" cy="547236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11800" y="1290600"/>
            <a:ext cx="3238560" cy="2395440"/>
          </a:xfrm>
          <a:prstGeom prst="rect">
            <a:avLst/>
          </a:prstGeom>
          <a:noFill/>
          <a:ln w="32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188040" y="1274760"/>
            <a:ext cx="3286080" cy="24289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521000" y="1262160"/>
            <a:ext cx="353376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e64"/>
                </a:solidFill>
                <a:latin typeface="Arial Narrow"/>
              </a:rPr>
              <a:t>Markets Addressed 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Flexible Product Applications: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L2 Ethernet Switch Applications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Web-uplink Switch Applications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Flexible Network Applications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SOHO and small enterprises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349"/>
              </a:spcBef>
              <a:buClr>
                <a:srgbClr val="001e6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 Narrow"/>
              </a:rPr>
              <a:t>Home Networking</a:t>
            </a:r>
            <a:endParaRPr b="0" lang="en-US" sz="14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606680" y="368280"/>
            <a:ext cx="8381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71280" y="0"/>
            <a:ext cx="10115280" cy="6856560"/>
          </a:xfrm>
          <a:prstGeom prst="rect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47840" y="399960"/>
            <a:ext cx="274608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849840" y="520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1e64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0"/>
            <a:ext cx="241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2178000"/>
            <a:ext cx="10136160" cy="27925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838080" y="3962520"/>
            <a:ext cx="58896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1e64"/>
                </a:solidFill>
                <a:latin typeface="Arial Narrow"/>
              </a:rPr>
              <a:t>Your PARTNER for Broadband success</a:t>
            </a:r>
            <a:endParaRPr b="0" lang="en-US" sz="2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38720" y="6202440"/>
            <a:ext cx="46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1e6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t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1e64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1e64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DM6996L/F/5L – Switch Controller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599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argets flexible low port Layer 2 switch application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ighly integrated 5 and 6 port Ethernet Switch Controller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Low cost economical solution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hree packages for total flexibility: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2" marL="1184400" indent="-29232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ADM6995L– 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Five 10/100 Mbps Tx/Fx Ports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lvl="2" marL="1184400" indent="-29232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ADM6996L -  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Five 10/100 Mbps Tx/Fx Ports + One 10/100 MAC 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lvl="2" marL="1184400" indent="-29232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ADM6996F - 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Four 10/100 Mbps Tx/Fx Ports + Two 10/100 MAC 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Ports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arget application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L2 Switch Applications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Router, Gateway and Home PHY Applications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ypical network topologie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SOHO and small  enterprise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Home networking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DM6996L/F/5L – Ethernet Switch Controller</a:t>
            </a:r>
            <a:br>
              <a:rPr sz="2800"/>
            </a:b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Markets Addressed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DM6996L/F/5L – Typical Corporate Network Topology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86080" y="2666880"/>
            <a:ext cx="660240" cy="372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65480" y="2187720"/>
            <a:ext cx="1638360" cy="4495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39880" y="2076480"/>
            <a:ext cx="1733400" cy="372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360440" y="3506760"/>
            <a:ext cx="1635120" cy="28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62520" y="2514600"/>
            <a:ext cx="0" cy="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0520" y="614988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"/>
              </a:rPr>
              <a:t>Analog phone</a:t>
            </a:r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06560" y="3075120"/>
            <a:ext cx="6662880" cy="3281400"/>
          </a:xfrm>
          <a:prstGeom prst="wedgeRoundRectCallout">
            <a:avLst>
              <a:gd name="adj1" fmla="val -60912"/>
              <a:gd name="adj2" fmla="val 847"/>
              <a:gd name="adj3" fmla="val 16667"/>
            </a:avLst>
          </a:prstGeom>
          <a:solidFill>
            <a:srgbClr val="ffffff"/>
          </a:solidFill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4265640"/>
            <a:ext cx="3559320" cy="619200"/>
          </a:xfrm>
          <a:prstGeom prst="ellipse">
            <a:avLst/>
          </a:prstGeom>
          <a:noFill/>
          <a:ln w="2844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04800" y="4645080"/>
            <a:ext cx="366840" cy="13176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97760" y="4884840"/>
            <a:ext cx="0" cy="55872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8" name="printer2"/>
          <p:cNvSpPr/>
          <p:nvPr/>
        </p:nvSpPr>
        <p:spPr>
          <a:xfrm>
            <a:off x="6570720" y="5181480"/>
            <a:ext cx="806400" cy="371520"/>
          </a:xfrm>
          <a:prstGeom prst="pie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00960" y="4822920"/>
            <a:ext cx="469800" cy="49680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6400" y="4076640"/>
            <a:ext cx="1027080" cy="28116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59080" y="4456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12000" y="3557520"/>
          <a:ext cx="885960" cy="6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12000" y="3557520"/>
                    <a:ext cx="8859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7500960" y="4010040"/>
            <a:ext cx="644400" cy="31752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595680" y="3657600"/>
            <a:ext cx="662040" cy="6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75440" y="3143160"/>
            <a:ext cx="138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e64"/>
                </a:solidFill>
                <a:latin typeface="Arial"/>
              </a:rPr>
              <a:t>5 Port Ether 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e64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562200" y="4438800"/>
            <a:ext cx="702000" cy="51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7467480" y="5162400"/>
            <a:ext cx="949320" cy="6796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5394240" y="3427560"/>
            <a:ext cx="2068560" cy="708120"/>
            <a:chOff x="5394240" y="3427560"/>
            <a:chExt cx="2068560" cy="708120"/>
          </a:xfrm>
        </p:grpSpPr>
        <p:sp>
          <p:nvSpPr>
            <p:cNvPr id="90" name=""/>
            <p:cNvSpPr/>
            <p:nvPr/>
          </p:nvSpPr>
          <p:spPr>
            <a:xfrm>
              <a:off x="5394240" y="3427560"/>
              <a:ext cx="1946160" cy="564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02360" y="385920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ADM6996/L/F/5L</a:t>
              </a:r>
              <a:endParaRPr b="0" lang="en-US" sz="12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6256080" y="4911840"/>
            <a:ext cx="190440" cy="45864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5486400" y="5315040"/>
            <a:ext cx="949320" cy="67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110440" y="4572000"/>
            <a:ext cx="1027080" cy="28116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8713800" y="4406760"/>
            <a:ext cx="662040" cy="6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4522680" y="4772160"/>
            <a:ext cx="557280" cy="51264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3854520" y="5099040"/>
            <a:ext cx="701640" cy="51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5154480" y="4910040"/>
            <a:ext cx="470160" cy="48276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99" name="printer2"/>
          <p:cNvSpPr/>
          <p:nvPr/>
        </p:nvSpPr>
        <p:spPr>
          <a:xfrm>
            <a:off x="4729320" y="5334120"/>
            <a:ext cx="806400" cy="371520"/>
          </a:xfrm>
          <a:prstGeom prst="pie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45160" y="3672000"/>
            <a:ext cx="558720" cy="588960"/>
          </a:xfrm>
          <a:prstGeom prst="line">
            <a:avLst/>
          </a:prstGeom>
          <a:ln w="936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5645160" y="3314880"/>
            <a:ext cx="17161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Infineon’s Low Port Switch Solutions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63560" y="1549440"/>
          <a:ext cx="369900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1549440"/>
                    <a:ext cx="369900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26160" y="1523880"/>
          <a:ext cx="3836880" cy="29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6160" y="1523880"/>
                    <a:ext cx="38368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48160" y="4610160"/>
            <a:ext cx="38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  <a:ea typeface="新細明體"/>
              </a:rPr>
              <a:t>ADM6996L Application Diagram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15640" y="4584600"/>
            <a:ext cx="38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  <a:ea typeface="新細明體"/>
              </a:rPr>
              <a:t>ADM6996F Application Diagram</a:t>
            </a:r>
            <a:endParaRPr b="0" lang="en-US" sz="20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68440" y="1776240"/>
            <a:ext cx="5426280" cy="46245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4032360"/>
            <a:ext cx="4618080" cy="36360"/>
          </a:xfrm>
          <a:custGeom>
            <a:avLst/>
            <a:gdLst/>
            <a:ahLst/>
            <a:rect l="l" t="t" r="r" b="b"/>
            <a:pathLst>
              <a:path w="2909" h="23">
                <a:moveTo>
                  <a:pt x="2885" y="0"/>
                </a:moveTo>
                <a:lnTo>
                  <a:pt x="0" y="0"/>
                </a:lnTo>
                <a:lnTo>
                  <a:pt x="22" y="23"/>
                </a:lnTo>
                <a:lnTo>
                  <a:pt x="2909" y="23"/>
                </a:lnTo>
                <a:lnTo>
                  <a:pt x="2885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0" y="3519360"/>
            <a:ext cx="38160" cy="549360"/>
          </a:xfrm>
          <a:custGeom>
            <a:avLst/>
            <a:gdLst/>
            <a:ahLst/>
            <a:rect l="l" t="t" r="r" b="b"/>
            <a:pathLst>
              <a:path w="24" h="346">
                <a:moveTo>
                  <a:pt x="24" y="346"/>
                </a:moveTo>
                <a:lnTo>
                  <a:pt x="0" y="323"/>
                </a:lnTo>
                <a:lnTo>
                  <a:pt x="0" y="0"/>
                </a:lnTo>
                <a:lnTo>
                  <a:pt x="24" y="23"/>
                </a:lnTo>
                <a:lnTo>
                  <a:pt x="24" y="346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519360"/>
            <a:ext cx="4579920" cy="51300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7080" y="367812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Switching Fabric</a:t>
            </a:r>
            <a:endParaRPr b="0" lang="en-US" sz="13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94720" y="1778040"/>
            <a:ext cx="42840" cy="4014720"/>
          </a:xfrm>
          <a:custGeom>
            <a:avLst/>
            <a:gdLst/>
            <a:ahLst/>
            <a:rect l="l" t="t" r="r" b="b"/>
            <a:pathLst>
              <a:path w="23" h="2294">
                <a:moveTo>
                  <a:pt x="23" y="2294"/>
                </a:moveTo>
                <a:lnTo>
                  <a:pt x="0" y="2271"/>
                </a:lnTo>
                <a:lnTo>
                  <a:pt x="0" y="0"/>
                </a:lnTo>
                <a:lnTo>
                  <a:pt x="23" y="23"/>
                </a:lnTo>
                <a:lnTo>
                  <a:pt x="23" y="2294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8440" y="5756400"/>
            <a:ext cx="5462640" cy="36360"/>
          </a:xfrm>
          <a:custGeom>
            <a:avLst/>
            <a:gdLst/>
            <a:ahLst/>
            <a:rect l="l" t="t" r="r" b="b"/>
            <a:pathLst>
              <a:path w="3441" h="23">
                <a:moveTo>
                  <a:pt x="3418" y="0"/>
                </a:moveTo>
                <a:lnTo>
                  <a:pt x="0" y="0"/>
                </a:lnTo>
                <a:lnTo>
                  <a:pt x="24" y="23"/>
                </a:lnTo>
                <a:lnTo>
                  <a:pt x="3441" y="23"/>
                </a:lnTo>
                <a:lnTo>
                  <a:pt x="3418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00200" y="4068720"/>
            <a:ext cx="951120" cy="2279520"/>
            <a:chOff x="2500200" y="4068720"/>
            <a:chExt cx="951120" cy="2279520"/>
          </a:xfrm>
        </p:grpSpPr>
        <p:grpSp>
          <p:nvGrpSpPr>
            <p:cNvPr id="117" name=""/>
            <p:cNvGrpSpPr/>
            <p:nvPr/>
          </p:nvGrpSpPr>
          <p:grpSpPr>
            <a:xfrm>
              <a:off x="2552760" y="4335480"/>
              <a:ext cx="770040" cy="622440"/>
              <a:chOff x="2552760" y="4335480"/>
              <a:chExt cx="770040" cy="622440"/>
            </a:xfrm>
          </p:grpSpPr>
          <p:sp>
            <p:nvSpPr>
              <p:cNvPr id="118" name=""/>
              <p:cNvSpPr/>
              <p:nvPr/>
            </p:nvSpPr>
            <p:spPr>
              <a:xfrm>
                <a:off x="2552760" y="4921200"/>
                <a:ext cx="77004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86080" y="4335480"/>
                <a:ext cx="3672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52760" y="4335480"/>
                <a:ext cx="73332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1692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792520" y="4068720"/>
              <a:ext cx="29196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73360" y="5891040"/>
              <a:ext cx="54756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35360" y="4937040"/>
              <a:ext cx="210960" cy="933480"/>
            </a:xfrm>
            <a:prstGeom prst="upDownArrow">
              <a:avLst>
                <a:gd name="adj1" fmla="val 50000"/>
                <a:gd name="adj2" fmla="val 88088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0200" y="5958000"/>
              <a:ext cx="95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00560" y="4068720"/>
            <a:ext cx="950760" cy="2279520"/>
            <a:chOff x="3400560" y="4068720"/>
            <a:chExt cx="950760" cy="2279520"/>
          </a:xfrm>
        </p:grpSpPr>
        <p:grpSp>
          <p:nvGrpSpPr>
            <p:cNvPr id="127" name=""/>
            <p:cNvGrpSpPr/>
            <p:nvPr/>
          </p:nvGrpSpPr>
          <p:grpSpPr>
            <a:xfrm>
              <a:off x="3452760" y="4335480"/>
              <a:ext cx="769680" cy="622440"/>
              <a:chOff x="3452760" y="4335480"/>
              <a:chExt cx="769680" cy="622440"/>
            </a:xfrm>
          </p:grpSpPr>
          <p:sp>
            <p:nvSpPr>
              <p:cNvPr id="128" name=""/>
              <p:cNvSpPr/>
              <p:nvPr/>
            </p:nvSpPr>
            <p:spPr>
              <a:xfrm>
                <a:off x="345276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8572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5276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1620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692520" y="4068720"/>
              <a:ext cx="29160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73360" y="5891040"/>
              <a:ext cx="54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5360" y="4937040"/>
              <a:ext cx="210600" cy="933480"/>
            </a:xfrm>
            <a:prstGeom prst="upDownArrow">
              <a:avLst>
                <a:gd name="adj1" fmla="val 50000"/>
                <a:gd name="adj2" fmla="val 8823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00560" y="59580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00560" y="4068720"/>
            <a:ext cx="950760" cy="2279520"/>
            <a:chOff x="4300560" y="4068720"/>
            <a:chExt cx="950760" cy="2279520"/>
          </a:xfrm>
        </p:grpSpPr>
        <p:grpSp>
          <p:nvGrpSpPr>
            <p:cNvPr id="137" name=""/>
            <p:cNvGrpSpPr/>
            <p:nvPr/>
          </p:nvGrpSpPr>
          <p:grpSpPr>
            <a:xfrm>
              <a:off x="4352760" y="4335480"/>
              <a:ext cx="769680" cy="622440"/>
              <a:chOff x="4352760" y="4335480"/>
              <a:chExt cx="769680" cy="622440"/>
            </a:xfrm>
          </p:grpSpPr>
          <p:sp>
            <p:nvSpPr>
              <p:cNvPr id="138" name=""/>
              <p:cNvSpPr/>
              <p:nvPr/>
            </p:nvSpPr>
            <p:spPr>
              <a:xfrm>
                <a:off x="435276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8572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276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1620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592520" y="4068720"/>
              <a:ext cx="29160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73360" y="5891040"/>
              <a:ext cx="54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35360" y="4937040"/>
              <a:ext cx="210600" cy="933480"/>
            </a:xfrm>
            <a:prstGeom prst="upDownArrow">
              <a:avLst>
                <a:gd name="adj1" fmla="val 50000"/>
                <a:gd name="adj2" fmla="val 8823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00560" y="59580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199120" y="4068720"/>
            <a:ext cx="950760" cy="2279520"/>
            <a:chOff x="5199120" y="4068720"/>
            <a:chExt cx="950760" cy="2279520"/>
          </a:xfrm>
        </p:grpSpPr>
        <p:grpSp>
          <p:nvGrpSpPr>
            <p:cNvPr id="147" name=""/>
            <p:cNvGrpSpPr/>
            <p:nvPr/>
          </p:nvGrpSpPr>
          <p:grpSpPr>
            <a:xfrm>
              <a:off x="5251320" y="4335480"/>
              <a:ext cx="769680" cy="622440"/>
              <a:chOff x="5251320" y="4335480"/>
              <a:chExt cx="769680" cy="622440"/>
            </a:xfrm>
          </p:grpSpPr>
          <p:sp>
            <p:nvSpPr>
              <p:cNvPr id="148" name=""/>
              <p:cNvSpPr/>
              <p:nvPr/>
            </p:nvSpPr>
            <p:spPr>
              <a:xfrm>
                <a:off x="525132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8428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132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1476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5491080" y="4068720"/>
              <a:ext cx="29160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71920" y="5891040"/>
              <a:ext cx="54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33920" y="4937040"/>
              <a:ext cx="210600" cy="933480"/>
            </a:xfrm>
            <a:prstGeom prst="upDownArrow">
              <a:avLst>
                <a:gd name="adj1" fmla="val 50000"/>
                <a:gd name="adj2" fmla="val 8823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99120" y="59580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099120" y="4068720"/>
            <a:ext cx="951120" cy="2279520"/>
            <a:chOff x="6099120" y="4068720"/>
            <a:chExt cx="951120" cy="2279520"/>
          </a:xfrm>
        </p:grpSpPr>
        <p:grpSp>
          <p:nvGrpSpPr>
            <p:cNvPr id="157" name=""/>
            <p:cNvGrpSpPr/>
            <p:nvPr/>
          </p:nvGrpSpPr>
          <p:grpSpPr>
            <a:xfrm>
              <a:off x="6151680" y="4335480"/>
              <a:ext cx="769680" cy="622440"/>
              <a:chOff x="6151680" y="4335480"/>
              <a:chExt cx="769680" cy="622440"/>
            </a:xfrm>
          </p:grpSpPr>
          <p:sp>
            <p:nvSpPr>
              <p:cNvPr id="158" name=""/>
              <p:cNvSpPr/>
              <p:nvPr/>
            </p:nvSpPr>
            <p:spPr>
              <a:xfrm>
                <a:off x="615168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8464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5168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512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391440" y="4068720"/>
              <a:ext cx="29196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2280" y="5891040"/>
              <a:ext cx="54756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34280" y="4937040"/>
              <a:ext cx="210960" cy="933480"/>
            </a:xfrm>
            <a:prstGeom prst="upDownArrow">
              <a:avLst>
                <a:gd name="adj1" fmla="val 50000"/>
                <a:gd name="adj2" fmla="val 8808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9120" y="5958000"/>
              <a:ext cx="95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910120" y="1785960"/>
            <a:ext cx="1262160" cy="1730520"/>
            <a:chOff x="5910120" y="1785960"/>
            <a:chExt cx="1262160" cy="1730520"/>
          </a:xfrm>
        </p:grpSpPr>
        <p:grpSp>
          <p:nvGrpSpPr>
            <p:cNvPr id="167" name=""/>
            <p:cNvGrpSpPr/>
            <p:nvPr/>
          </p:nvGrpSpPr>
          <p:grpSpPr>
            <a:xfrm>
              <a:off x="6151680" y="2620800"/>
              <a:ext cx="769680" cy="622440"/>
              <a:chOff x="6151680" y="2620800"/>
              <a:chExt cx="769680" cy="622440"/>
            </a:xfrm>
          </p:grpSpPr>
          <p:sp>
            <p:nvSpPr>
              <p:cNvPr id="168" name=""/>
              <p:cNvSpPr/>
              <p:nvPr/>
            </p:nvSpPr>
            <p:spPr>
              <a:xfrm>
                <a:off x="6151680" y="320652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84640" y="262080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51680" y="262080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15120" y="275256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6391440" y="3259080"/>
              <a:ext cx="291960" cy="25740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34280" y="2146320"/>
              <a:ext cx="210960" cy="466560"/>
            </a:xfrm>
            <a:prstGeom prst="upDownArrow">
              <a:avLst>
                <a:gd name="adj1" fmla="val 50000"/>
                <a:gd name="adj2" fmla="val 4402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0120" y="1785960"/>
              <a:ext cx="1262160" cy="314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08840" y="18144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MII/GPSI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25840" y="1979640"/>
            <a:ext cx="2936880" cy="1531800"/>
            <a:chOff x="2625840" y="1979640"/>
            <a:chExt cx="2936880" cy="1531800"/>
          </a:xfrm>
        </p:grpSpPr>
        <p:grpSp>
          <p:nvGrpSpPr>
            <p:cNvPr id="177" name=""/>
            <p:cNvGrpSpPr/>
            <p:nvPr/>
          </p:nvGrpSpPr>
          <p:grpSpPr>
            <a:xfrm>
              <a:off x="4241880" y="2049480"/>
              <a:ext cx="1320840" cy="915840"/>
              <a:chOff x="4241880" y="2049480"/>
              <a:chExt cx="1320840" cy="915840"/>
            </a:xfrm>
          </p:grpSpPr>
          <p:sp>
            <p:nvSpPr>
              <p:cNvPr id="178" name=""/>
              <p:cNvSpPr/>
              <p:nvPr/>
            </p:nvSpPr>
            <p:spPr>
              <a:xfrm>
                <a:off x="4241880" y="2928960"/>
                <a:ext cx="1320840" cy="36360"/>
              </a:xfrm>
              <a:custGeom>
                <a:avLst/>
                <a:gdLst/>
                <a:ahLst/>
                <a:rect l="l" t="t" r="r" b="b"/>
                <a:pathLst>
                  <a:path w="832" h="23">
                    <a:moveTo>
                      <a:pt x="809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832" y="23"/>
                    </a:lnTo>
                    <a:lnTo>
                      <a:pt x="809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26360" y="2049480"/>
                <a:ext cx="36360" cy="915840"/>
              </a:xfrm>
              <a:custGeom>
                <a:avLst/>
                <a:gdLst/>
                <a:ahLst/>
                <a:rect l="l" t="t" r="r" b="b"/>
                <a:pathLst>
                  <a:path w="23" h="577">
                    <a:moveTo>
                      <a:pt x="23" y="577"/>
                    </a:moveTo>
                    <a:lnTo>
                      <a:pt x="0" y="554"/>
                    </a:lnTo>
                    <a:lnTo>
                      <a:pt x="0" y="0"/>
                    </a:lnTo>
                    <a:lnTo>
                      <a:pt x="23" y="22"/>
                    </a:lnTo>
                    <a:lnTo>
                      <a:pt x="23" y="577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41880" y="2049480"/>
                <a:ext cx="1284480" cy="8794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80040" y="2230560"/>
                <a:ext cx="1244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(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Address Lookup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27440" y="257004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Engine)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714840" y="2071800"/>
              <a:ext cx="485640" cy="2952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6" y="47"/>
                  </a:moveTo>
                  <a:lnTo>
                    <a:pt x="46" y="0"/>
                  </a:lnTo>
                  <a:lnTo>
                    <a:pt x="0" y="92"/>
                  </a:lnTo>
                  <a:lnTo>
                    <a:pt x="46" y="186"/>
                  </a:lnTo>
                  <a:lnTo>
                    <a:pt x="46" y="139"/>
                  </a:lnTo>
                  <a:lnTo>
                    <a:pt x="169" y="139"/>
                  </a:lnTo>
                  <a:lnTo>
                    <a:pt x="169" y="186"/>
                  </a:lnTo>
                  <a:lnTo>
                    <a:pt x="216" y="92"/>
                  </a:lnTo>
                  <a:lnTo>
                    <a:pt x="169" y="0"/>
                  </a:lnTo>
                  <a:lnTo>
                    <a:pt x="169" y="47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8160" y="2986200"/>
              <a:ext cx="292320" cy="525240"/>
            </a:xfrm>
            <a:custGeom>
              <a:avLst/>
              <a:gdLst/>
              <a:ahLst/>
              <a:rect l="l" t="t" r="r" b="b"/>
              <a:pathLst>
                <a:path w="184" h="971">
                  <a:moveTo>
                    <a:pt x="139" y="47"/>
                  </a:moveTo>
                  <a:lnTo>
                    <a:pt x="184" y="47"/>
                  </a:lnTo>
                  <a:lnTo>
                    <a:pt x="92" y="0"/>
                  </a:lnTo>
                  <a:lnTo>
                    <a:pt x="0" y="47"/>
                  </a:lnTo>
                  <a:lnTo>
                    <a:pt x="46" y="47"/>
                  </a:lnTo>
                  <a:lnTo>
                    <a:pt x="46" y="924"/>
                  </a:lnTo>
                  <a:lnTo>
                    <a:pt x="0" y="924"/>
                  </a:lnTo>
                  <a:lnTo>
                    <a:pt x="92" y="971"/>
                  </a:lnTo>
                  <a:lnTo>
                    <a:pt x="184" y="924"/>
                  </a:lnTo>
                  <a:lnTo>
                    <a:pt x="139" y="924"/>
                  </a:lnTo>
                  <a:lnTo>
                    <a:pt x="139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625840" y="2494080"/>
              <a:ext cx="1063440" cy="477720"/>
              <a:chOff x="2625840" y="2494080"/>
              <a:chExt cx="1063440" cy="477720"/>
            </a:xfrm>
          </p:grpSpPr>
          <p:sp>
            <p:nvSpPr>
              <p:cNvPr id="186" name=""/>
              <p:cNvSpPr/>
              <p:nvPr/>
            </p:nvSpPr>
            <p:spPr>
              <a:xfrm>
                <a:off x="2625840" y="2935440"/>
                <a:ext cx="1063440" cy="36360"/>
              </a:xfrm>
              <a:custGeom>
                <a:avLst/>
                <a:gdLst/>
                <a:ahLst/>
                <a:rect l="l" t="t" r="r" b="b"/>
                <a:pathLst>
                  <a:path w="670" h="23">
                    <a:moveTo>
                      <a:pt x="647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670" y="23"/>
                    </a:lnTo>
                    <a:lnTo>
                      <a:pt x="647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52920" y="2494080"/>
                <a:ext cx="36360" cy="477720"/>
              </a:xfrm>
              <a:custGeom>
                <a:avLst/>
                <a:gdLst/>
                <a:ahLst/>
                <a:rect l="l" t="t" r="r" b="b"/>
                <a:pathLst>
                  <a:path w="23" h="301">
                    <a:moveTo>
                      <a:pt x="23" y="301"/>
                    </a:moveTo>
                    <a:lnTo>
                      <a:pt x="0" y="278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01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25840" y="2494080"/>
                <a:ext cx="1027080" cy="441360"/>
              </a:xfrm>
              <a:prstGeom prst="rect">
                <a:avLst/>
              </a:prstGeom>
              <a:solidFill>
                <a:srgbClr val="00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46720" y="2511360"/>
                <a:ext cx="988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Packet Buffer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58760" y="271620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384 Kbit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751280" y="2986200"/>
              <a:ext cx="292320" cy="525240"/>
            </a:xfrm>
            <a:custGeom>
              <a:avLst/>
              <a:gdLst/>
              <a:ahLst/>
              <a:rect l="l" t="t" r="r" b="b"/>
              <a:pathLst>
                <a:path w="184" h="971">
                  <a:moveTo>
                    <a:pt x="139" y="47"/>
                  </a:moveTo>
                  <a:lnTo>
                    <a:pt x="184" y="47"/>
                  </a:lnTo>
                  <a:lnTo>
                    <a:pt x="92" y="0"/>
                  </a:lnTo>
                  <a:lnTo>
                    <a:pt x="0" y="47"/>
                  </a:lnTo>
                  <a:lnTo>
                    <a:pt x="46" y="47"/>
                  </a:lnTo>
                  <a:lnTo>
                    <a:pt x="46" y="924"/>
                  </a:lnTo>
                  <a:lnTo>
                    <a:pt x="0" y="924"/>
                  </a:lnTo>
                  <a:lnTo>
                    <a:pt x="92" y="971"/>
                  </a:lnTo>
                  <a:lnTo>
                    <a:pt x="184" y="924"/>
                  </a:lnTo>
                  <a:lnTo>
                    <a:pt x="139" y="924"/>
                  </a:lnTo>
                  <a:lnTo>
                    <a:pt x="139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625840" y="1979640"/>
              <a:ext cx="1063440" cy="477720"/>
              <a:chOff x="2625840" y="1979640"/>
              <a:chExt cx="1063440" cy="477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625840" y="2421000"/>
                <a:ext cx="1063440" cy="36360"/>
              </a:xfrm>
              <a:custGeom>
                <a:avLst/>
                <a:gdLst/>
                <a:ahLst/>
                <a:rect l="l" t="t" r="r" b="b"/>
                <a:pathLst>
                  <a:path w="670" h="23">
                    <a:moveTo>
                      <a:pt x="647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670" y="23"/>
                    </a:lnTo>
                    <a:lnTo>
                      <a:pt x="647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52560" y="1979640"/>
                <a:ext cx="36360" cy="477720"/>
              </a:xfrm>
              <a:custGeom>
                <a:avLst/>
                <a:gdLst/>
                <a:ahLst/>
                <a:rect l="l" t="t" r="r" b="b"/>
                <a:pathLst>
                  <a:path w="23" h="301">
                    <a:moveTo>
                      <a:pt x="23" y="301"/>
                    </a:moveTo>
                    <a:lnTo>
                      <a:pt x="0" y="278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01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25840" y="1979640"/>
                <a:ext cx="1026720" cy="441360"/>
              </a:xfrm>
              <a:prstGeom prst="rect">
                <a:avLst/>
              </a:prstGeom>
              <a:solidFill>
                <a:srgbClr val="99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7080" y="19969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AddressTable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58040" y="220176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2K Entry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7353360" y="1870200"/>
            <a:ext cx="2550600" cy="2620800"/>
            <a:chOff x="7353360" y="1870200"/>
            <a:chExt cx="2550600" cy="2620800"/>
          </a:xfrm>
        </p:grpSpPr>
        <p:grpSp>
          <p:nvGrpSpPr>
            <p:cNvPr id="199" name=""/>
            <p:cNvGrpSpPr/>
            <p:nvPr/>
          </p:nvGrpSpPr>
          <p:grpSpPr>
            <a:xfrm>
              <a:off x="7977240" y="1888920"/>
              <a:ext cx="880920" cy="421920"/>
              <a:chOff x="7977240" y="1888920"/>
              <a:chExt cx="880920" cy="421920"/>
            </a:xfrm>
          </p:grpSpPr>
          <p:sp>
            <p:nvSpPr>
              <p:cNvPr id="200" name=""/>
              <p:cNvSpPr/>
              <p:nvPr/>
            </p:nvSpPr>
            <p:spPr>
              <a:xfrm>
                <a:off x="7977240" y="2272680"/>
                <a:ext cx="880920" cy="37800"/>
              </a:xfrm>
              <a:custGeom>
                <a:avLst/>
                <a:gdLst/>
                <a:ahLst/>
                <a:rect l="l" t="t" r="r" b="b"/>
                <a:pathLst>
                  <a:path w="555" h="24">
                    <a:moveTo>
                      <a:pt x="531" y="0"/>
                    </a:moveTo>
                    <a:lnTo>
                      <a:pt x="0" y="0"/>
                    </a:lnTo>
                    <a:lnTo>
                      <a:pt x="24" y="24"/>
                    </a:lnTo>
                    <a:lnTo>
                      <a:pt x="555" y="24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20000" y="1888920"/>
                <a:ext cx="38160" cy="421920"/>
              </a:xfrm>
              <a:custGeom>
                <a:avLst/>
                <a:gdLst/>
                <a:ahLst/>
                <a:rect l="l" t="t" r="r" b="b"/>
                <a:pathLst>
                  <a:path w="24" h="266">
                    <a:moveTo>
                      <a:pt x="24" y="266"/>
                    </a:moveTo>
                    <a:lnTo>
                      <a:pt x="0" y="242"/>
                    </a:lnTo>
                    <a:lnTo>
                      <a:pt x="0" y="0"/>
                    </a:lnTo>
                    <a:lnTo>
                      <a:pt x="24" y="23"/>
                    </a:lnTo>
                    <a:lnTo>
                      <a:pt x="24" y="26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77240" y="1888920"/>
                <a:ext cx="842760" cy="3837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069760" y="198684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93C46/66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8086680" y="3735360"/>
              <a:ext cx="623880" cy="421920"/>
              <a:chOff x="8086680" y="3735360"/>
              <a:chExt cx="623880" cy="421920"/>
            </a:xfrm>
          </p:grpSpPr>
          <p:sp>
            <p:nvSpPr>
              <p:cNvPr id="205" name=""/>
              <p:cNvSpPr/>
              <p:nvPr/>
            </p:nvSpPr>
            <p:spPr>
              <a:xfrm>
                <a:off x="8086680" y="4120560"/>
                <a:ext cx="623880" cy="36360"/>
              </a:xfrm>
              <a:custGeom>
                <a:avLst/>
                <a:gdLst/>
                <a:ahLst/>
                <a:rect l="l" t="t" r="r" b="b"/>
                <a:pathLst>
                  <a:path w="393" h="23">
                    <a:moveTo>
                      <a:pt x="370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393" y="2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674200" y="3735360"/>
                <a:ext cx="36360" cy="421920"/>
              </a:xfrm>
              <a:custGeom>
                <a:avLst/>
                <a:gdLst/>
                <a:ahLst/>
                <a:rect l="l" t="t" r="r" b="b"/>
                <a:pathLst>
                  <a:path w="23" h="266">
                    <a:moveTo>
                      <a:pt x="23" y="266"/>
                    </a:moveTo>
                    <a:lnTo>
                      <a:pt x="0" y="243"/>
                    </a:lnTo>
                    <a:lnTo>
                      <a:pt x="0" y="0"/>
                    </a:lnTo>
                    <a:lnTo>
                      <a:pt x="23" y="24"/>
                    </a:lnTo>
                    <a:lnTo>
                      <a:pt x="23" y="26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86680" y="3735360"/>
                <a:ext cx="587520" cy="3852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25640" y="3833280"/>
                <a:ext cx="320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LED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8086680" y="2514600"/>
              <a:ext cx="552600" cy="421920"/>
              <a:chOff x="8086680" y="2514600"/>
              <a:chExt cx="552600" cy="421920"/>
            </a:xfrm>
          </p:grpSpPr>
          <p:sp>
            <p:nvSpPr>
              <p:cNvPr id="210" name=""/>
              <p:cNvSpPr/>
              <p:nvPr/>
            </p:nvSpPr>
            <p:spPr>
              <a:xfrm>
                <a:off x="8086680" y="2901600"/>
                <a:ext cx="552600" cy="34560"/>
              </a:xfrm>
              <a:custGeom>
                <a:avLst/>
                <a:gdLst/>
                <a:ahLst/>
                <a:rect l="l" t="t" r="r" b="b"/>
                <a:pathLst>
                  <a:path w="348" h="22">
                    <a:moveTo>
                      <a:pt x="324" y="0"/>
                    </a:moveTo>
                    <a:lnTo>
                      <a:pt x="0" y="0"/>
                    </a:lnTo>
                    <a:lnTo>
                      <a:pt x="24" y="22"/>
                    </a:lnTo>
                    <a:lnTo>
                      <a:pt x="348" y="22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601120" y="2514600"/>
                <a:ext cx="38160" cy="421920"/>
              </a:xfrm>
              <a:custGeom>
                <a:avLst/>
                <a:gdLst/>
                <a:ahLst/>
                <a:rect l="l" t="t" r="r" b="b"/>
                <a:pathLst>
                  <a:path w="24" h="266">
                    <a:moveTo>
                      <a:pt x="24" y="266"/>
                    </a:moveTo>
                    <a:lnTo>
                      <a:pt x="0" y="244"/>
                    </a:lnTo>
                    <a:lnTo>
                      <a:pt x="0" y="0"/>
                    </a:lnTo>
                    <a:lnTo>
                      <a:pt x="24" y="25"/>
                    </a:lnTo>
                    <a:lnTo>
                      <a:pt x="24" y="26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86680" y="2514600"/>
                <a:ext cx="514440" cy="3870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78840" y="261288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8051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353360" y="4456080"/>
              <a:ext cx="368280" cy="34560"/>
            </a:xfrm>
            <a:custGeom>
              <a:avLst/>
              <a:gdLst/>
              <a:ahLst/>
              <a:rect l="l" t="t" r="r" b="b"/>
              <a:pathLst>
                <a:path w="232" h="22">
                  <a:moveTo>
                    <a:pt x="209" y="0"/>
                  </a:moveTo>
                  <a:lnTo>
                    <a:pt x="0" y="0"/>
                  </a:lnTo>
                  <a:lnTo>
                    <a:pt x="24" y="22"/>
                  </a:lnTo>
                  <a:lnTo>
                    <a:pt x="232" y="22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84920" y="1870200"/>
              <a:ext cx="36720" cy="2620800"/>
            </a:xfrm>
            <a:custGeom>
              <a:avLst/>
              <a:gdLst/>
              <a:ahLst/>
              <a:rect l="l" t="t" r="r" b="b"/>
              <a:pathLst>
                <a:path w="23" h="1651">
                  <a:moveTo>
                    <a:pt x="23" y="1651"/>
                  </a:moveTo>
                  <a:lnTo>
                    <a:pt x="0" y="1629"/>
                  </a:lnTo>
                  <a:lnTo>
                    <a:pt x="0" y="0"/>
                  </a:lnTo>
                  <a:lnTo>
                    <a:pt x="23" y="22"/>
                  </a:lnTo>
                  <a:lnTo>
                    <a:pt x="23" y="1651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53360" y="1870200"/>
              <a:ext cx="331560" cy="258588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00600" y="2690640"/>
              <a:ext cx="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I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84760" y="280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N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86200" y="2925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86200" y="3043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E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84760" y="3160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R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87640" y="32763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F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4760" y="33940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6200" y="3512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E</a:t>
              </a:r>
              <a:endParaRPr b="0" lang="en-US" sz="8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84920" y="1954080"/>
              <a:ext cx="292320" cy="29160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46" y="45"/>
                  </a:moveTo>
                  <a:lnTo>
                    <a:pt x="46" y="0"/>
                  </a:lnTo>
                  <a:lnTo>
                    <a:pt x="0" y="92"/>
                  </a:lnTo>
                  <a:lnTo>
                    <a:pt x="46" y="184"/>
                  </a:lnTo>
                  <a:lnTo>
                    <a:pt x="46" y="137"/>
                  </a:lnTo>
                  <a:lnTo>
                    <a:pt x="139" y="137"/>
                  </a:lnTo>
                  <a:lnTo>
                    <a:pt x="139" y="184"/>
                  </a:lnTo>
                  <a:lnTo>
                    <a:pt x="184" y="92"/>
                  </a:lnTo>
                  <a:lnTo>
                    <a:pt x="139" y="0"/>
                  </a:lnTo>
                  <a:lnTo>
                    <a:pt x="139" y="45"/>
                  </a:lnTo>
                  <a:lnTo>
                    <a:pt x="46" y="45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84920" y="2565360"/>
              <a:ext cx="401760" cy="293040"/>
            </a:xfrm>
            <a:custGeom>
              <a:avLst/>
              <a:gdLst/>
              <a:ahLst/>
              <a:rect l="l" t="t" r="r" b="b"/>
              <a:pathLst>
                <a:path w="253" h="185">
                  <a:moveTo>
                    <a:pt x="46" y="47"/>
                  </a:moveTo>
                  <a:lnTo>
                    <a:pt x="46" y="0"/>
                  </a:lnTo>
                  <a:lnTo>
                    <a:pt x="0" y="92"/>
                  </a:lnTo>
                  <a:lnTo>
                    <a:pt x="46" y="185"/>
                  </a:lnTo>
                  <a:lnTo>
                    <a:pt x="46" y="139"/>
                  </a:lnTo>
                  <a:lnTo>
                    <a:pt x="208" y="139"/>
                  </a:lnTo>
                  <a:lnTo>
                    <a:pt x="208" y="185"/>
                  </a:lnTo>
                  <a:lnTo>
                    <a:pt x="253" y="92"/>
                  </a:lnTo>
                  <a:lnTo>
                    <a:pt x="208" y="0"/>
                  </a:lnTo>
                  <a:lnTo>
                    <a:pt x="208" y="47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84920" y="3789360"/>
              <a:ext cx="401760" cy="291600"/>
            </a:xfrm>
            <a:custGeom>
              <a:avLst/>
              <a:gdLst/>
              <a:ahLst/>
              <a:rect l="l" t="t" r="r" b="b"/>
              <a:pathLst>
                <a:path w="253" h="184">
                  <a:moveTo>
                    <a:pt x="208" y="138"/>
                  </a:moveTo>
                  <a:lnTo>
                    <a:pt x="208" y="184"/>
                  </a:lnTo>
                  <a:lnTo>
                    <a:pt x="253" y="92"/>
                  </a:lnTo>
                  <a:lnTo>
                    <a:pt x="208" y="0"/>
                  </a:lnTo>
                  <a:lnTo>
                    <a:pt x="208" y="45"/>
                  </a:lnTo>
                  <a:lnTo>
                    <a:pt x="46" y="45"/>
                  </a:lnTo>
                  <a:lnTo>
                    <a:pt x="46" y="0"/>
                  </a:lnTo>
                  <a:lnTo>
                    <a:pt x="0" y="92"/>
                  </a:lnTo>
                  <a:lnTo>
                    <a:pt x="46" y="184"/>
                  </a:lnTo>
                  <a:lnTo>
                    <a:pt x="46" y="138"/>
                  </a:lnTo>
                  <a:lnTo>
                    <a:pt x="208" y="138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40880" y="194616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050"/>
                  </a:solidFill>
                  <a:latin typeface="Arial"/>
                  <a:ea typeface="新細明體"/>
                </a:rPr>
                <a:t>EEPROM I/F</a:t>
              </a:r>
              <a:endParaRPr b="0" lang="en-US" sz="12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20920" y="257472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050"/>
                  </a:solidFill>
                  <a:latin typeface="Arial"/>
                  <a:ea typeface="新細明體"/>
                </a:rPr>
                <a:t>SMI I/F</a:t>
              </a:r>
              <a:endParaRPr b="0" lang="en-US" sz="12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81520" y="1414440"/>
            <a:ext cx="3597120" cy="2119320"/>
            <a:chOff x="5681520" y="1414440"/>
            <a:chExt cx="3597120" cy="2119320"/>
          </a:xfrm>
        </p:grpSpPr>
        <p:sp>
          <p:nvSpPr>
            <p:cNvPr id="231" name=""/>
            <p:cNvSpPr/>
            <p:nvPr/>
          </p:nvSpPr>
          <p:spPr>
            <a:xfrm>
              <a:off x="5681520" y="1444680"/>
              <a:ext cx="1743120" cy="2089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23400" y="1414440"/>
              <a:ext cx="20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050"/>
                  </a:solidFill>
                  <a:latin typeface="Arial"/>
                  <a:ea typeface="新細明體"/>
                </a:rPr>
                <a:t>ADM6996L Supports Only</a:t>
              </a:r>
              <a:endParaRPr b="0" lang="en-US" sz="12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DM6995L/6L Block Diagram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162640" y="6462720"/>
            <a:ext cx="75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azon_system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DM6996F Block Diagram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2368440" y="1776240"/>
            <a:ext cx="5426280" cy="46245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4032360"/>
            <a:ext cx="4618080" cy="36360"/>
          </a:xfrm>
          <a:custGeom>
            <a:avLst/>
            <a:gdLst/>
            <a:ahLst/>
            <a:rect l="l" t="t" r="r" b="b"/>
            <a:pathLst>
              <a:path w="2909" h="23">
                <a:moveTo>
                  <a:pt x="2885" y="0"/>
                </a:moveTo>
                <a:lnTo>
                  <a:pt x="0" y="0"/>
                </a:lnTo>
                <a:lnTo>
                  <a:pt x="22" y="23"/>
                </a:lnTo>
                <a:lnTo>
                  <a:pt x="2909" y="23"/>
                </a:lnTo>
                <a:lnTo>
                  <a:pt x="2885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7200" y="3519360"/>
            <a:ext cx="38160" cy="549360"/>
          </a:xfrm>
          <a:custGeom>
            <a:avLst/>
            <a:gdLst/>
            <a:ahLst/>
            <a:rect l="l" t="t" r="r" b="b"/>
            <a:pathLst>
              <a:path w="24" h="346">
                <a:moveTo>
                  <a:pt x="24" y="346"/>
                </a:moveTo>
                <a:lnTo>
                  <a:pt x="0" y="323"/>
                </a:lnTo>
                <a:lnTo>
                  <a:pt x="0" y="0"/>
                </a:lnTo>
                <a:lnTo>
                  <a:pt x="24" y="23"/>
                </a:lnTo>
                <a:lnTo>
                  <a:pt x="24" y="346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3519360"/>
            <a:ext cx="4579920" cy="51300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7080" y="367812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Switching Fabric</a:t>
            </a:r>
            <a:endParaRPr b="0" lang="en-US" sz="13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94720" y="1778040"/>
            <a:ext cx="42840" cy="4014720"/>
          </a:xfrm>
          <a:custGeom>
            <a:avLst/>
            <a:gdLst/>
            <a:ahLst/>
            <a:rect l="l" t="t" r="r" b="b"/>
            <a:pathLst>
              <a:path w="23" h="2294">
                <a:moveTo>
                  <a:pt x="23" y="2294"/>
                </a:moveTo>
                <a:lnTo>
                  <a:pt x="0" y="2271"/>
                </a:lnTo>
                <a:lnTo>
                  <a:pt x="0" y="0"/>
                </a:lnTo>
                <a:lnTo>
                  <a:pt x="23" y="23"/>
                </a:lnTo>
                <a:lnTo>
                  <a:pt x="23" y="2294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68440" y="5756400"/>
            <a:ext cx="5462640" cy="36360"/>
          </a:xfrm>
          <a:custGeom>
            <a:avLst/>
            <a:gdLst/>
            <a:ahLst/>
            <a:rect l="l" t="t" r="r" b="b"/>
            <a:pathLst>
              <a:path w="3441" h="23">
                <a:moveTo>
                  <a:pt x="3418" y="0"/>
                </a:moveTo>
                <a:lnTo>
                  <a:pt x="0" y="0"/>
                </a:lnTo>
                <a:lnTo>
                  <a:pt x="24" y="23"/>
                </a:lnTo>
                <a:lnTo>
                  <a:pt x="3441" y="23"/>
                </a:lnTo>
                <a:lnTo>
                  <a:pt x="3418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0200" y="4068720"/>
            <a:ext cx="951120" cy="2279520"/>
            <a:chOff x="2500200" y="4068720"/>
            <a:chExt cx="951120" cy="2279520"/>
          </a:xfrm>
        </p:grpSpPr>
        <p:grpSp>
          <p:nvGrpSpPr>
            <p:cNvPr id="244" name=""/>
            <p:cNvGrpSpPr/>
            <p:nvPr/>
          </p:nvGrpSpPr>
          <p:grpSpPr>
            <a:xfrm>
              <a:off x="2552760" y="4335480"/>
              <a:ext cx="770040" cy="622440"/>
              <a:chOff x="2552760" y="4335480"/>
              <a:chExt cx="770040" cy="622440"/>
            </a:xfrm>
          </p:grpSpPr>
          <p:sp>
            <p:nvSpPr>
              <p:cNvPr id="245" name=""/>
              <p:cNvSpPr/>
              <p:nvPr/>
            </p:nvSpPr>
            <p:spPr>
              <a:xfrm>
                <a:off x="2552760" y="4921200"/>
                <a:ext cx="77004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86080" y="4335480"/>
                <a:ext cx="3672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760" y="4335480"/>
                <a:ext cx="73332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1692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792520" y="4068720"/>
              <a:ext cx="29196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73360" y="5891040"/>
              <a:ext cx="54756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5360" y="4937040"/>
              <a:ext cx="210960" cy="933480"/>
            </a:xfrm>
            <a:prstGeom prst="upDownArrow">
              <a:avLst>
                <a:gd name="adj1" fmla="val 50000"/>
                <a:gd name="adj2" fmla="val 88088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0200" y="5958000"/>
              <a:ext cx="95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400560" y="4068720"/>
            <a:ext cx="950760" cy="2279520"/>
            <a:chOff x="3400560" y="4068720"/>
            <a:chExt cx="950760" cy="2279520"/>
          </a:xfrm>
        </p:grpSpPr>
        <p:grpSp>
          <p:nvGrpSpPr>
            <p:cNvPr id="254" name=""/>
            <p:cNvGrpSpPr/>
            <p:nvPr/>
          </p:nvGrpSpPr>
          <p:grpSpPr>
            <a:xfrm>
              <a:off x="3452760" y="4335480"/>
              <a:ext cx="769680" cy="622440"/>
              <a:chOff x="3452760" y="4335480"/>
              <a:chExt cx="769680" cy="622440"/>
            </a:xfrm>
          </p:grpSpPr>
          <p:sp>
            <p:nvSpPr>
              <p:cNvPr id="255" name=""/>
              <p:cNvSpPr/>
              <p:nvPr/>
            </p:nvSpPr>
            <p:spPr>
              <a:xfrm>
                <a:off x="345276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8572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5276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1620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3692520" y="4068720"/>
              <a:ext cx="29160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73360" y="5891040"/>
              <a:ext cx="54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5360" y="4937040"/>
              <a:ext cx="210600" cy="933480"/>
            </a:xfrm>
            <a:prstGeom prst="upDownArrow">
              <a:avLst>
                <a:gd name="adj1" fmla="val 50000"/>
                <a:gd name="adj2" fmla="val 8823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00560" y="59580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300560" y="4068720"/>
            <a:ext cx="950760" cy="2279520"/>
            <a:chOff x="4300560" y="4068720"/>
            <a:chExt cx="950760" cy="2279520"/>
          </a:xfrm>
        </p:grpSpPr>
        <p:grpSp>
          <p:nvGrpSpPr>
            <p:cNvPr id="264" name=""/>
            <p:cNvGrpSpPr/>
            <p:nvPr/>
          </p:nvGrpSpPr>
          <p:grpSpPr>
            <a:xfrm>
              <a:off x="4352760" y="4335480"/>
              <a:ext cx="769680" cy="622440"/>
              <a:chOff x="4352760" y="4335480"/>
              <a:chExt cx="769680" cy="622440"/>
            </a:xfrm>
          </p:grpSpPr>
          <p:sp>
            <p:nvSpPr>
              <p:cNvPr id="265" name=""/>
              <p:cNvSpPr/>
              <p:nvPr/>
            </p:nvSpPr>
            <p:spPr>
              <a:xfrm>
                <a:off x="435276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8572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5276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620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592520" y="4068720"/>
              <a:ext cx="29160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73360" y="5891040"/>
              <a:ext cx="54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35360" y="4937040"/>
              <a:ext cx="210600" cy="933480"/>
            </a:xfrm>
            <a:prstGeom prst="upDownArrow">
              <a:avLst>
                <a:gd name="adj1" fmla="val 50000"/>
                <a:gd name="adj2" fmla="val 8823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00560" y="59580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99120" y="4068720"/>
            <a:ext cx="950760" cy="2279520"/>
            <a:chOff x="5199120" y="4068720"/>
            <a:chExt cx="950760" cy="2279520"/>
          </a:xfrm>
        </p:grpSpPr>
        <p:grpSp>
          <p:nvGrpSpPr>
            <p:cNvPr id="274" name=""/>
            <p:cNvGrpSpPr/>
            <p:nvPr/>
          </p:nvGrpSpPr>
          <p:grpSpPr>
            <a:xfrm>
              <a:off x="5251320" y="4335480"/>
              <a:ext cx="770040" cy="622440"/>
              <a:chOff x="5251320" y="4335480"/>
              <a:chExt cx="770040" cy="622440"/>
            </a:xfrm>
          </p:grpSpPr>
          <p:sp>
            <p:nvSpPr>
              <p:cNvPr id="275" name=""/>
              <p:cNvSpPr/>
              <p:nvPr/>
            </p:nvSpPr>
            <p:spPr>
              <a:xfrm>
                <a:off x="5251320" y="4921200"/>
                <a:ext cx="77004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84640" y="4335480"/>
                <a:ext cx="3672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51320" y="4335480"/>
                <a:ext cx="73332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1548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491080" y="4068720"/>
              <a:ext cx="29232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72280" y="5891040"/>
              <a:ext cx="54756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33920" y="4937040"/>
              <a:ext cx="211320" cy="933480"/>
            </a:xfrm>
            <a:prstGeom prst="upDownArrow">
              <a:avLst>
                <a:gd name="adj1" fmla="val 50000"/>
                <a:gd name="adj2" fmla="val 8793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99120" y="59580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272280" y="5891040"/>
            <a:ext cx="54756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1e64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099120" y="4068720"/>
            <a:ext cx="951120" cy="2196360"/>
            <a:chOff x="6099120" y="4068720"/>
            <a:chExt cx="951120" cy="2196360"/>
          </a:xfrm>
        </p:grpSpPr>
        <p:grpSp>
          <p:nvGrpSpPr>
            <p:cNvPr id="285" name=""/>
            <p:cNvGrpSpPr/>
            <p:nvPr/>
          </p:nvGrpSpPr>
          <p:grpSpPr>
            <a:xfrm>
              <a:off x="6151680" y="4335480"/>
              <a:ext cx="769680" cy="622440"/>
              <a:chOff x="6151680" y="4335480"/>
              <a:chExt cx="769680" cy="622440"/>
            </a:xfrm>
          </p:grpSpPr>
          <p:sp>
            <p:nvSpPr>
              <p:cNvPr id="286" name=""/>
              <p:cNvSpPr/>
              <p:nvPr/>
            </p:nvSpPr>
            <p:spPr>
              <a:xfrm>
                <a:off x="6151680" y="492120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84640" y="433548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1680" y="433548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15120" y="446724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391440" y="4068720"/>
              <a:ext cx="291960" cy="25704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9120" y="5958000"/>
              <a:ext cx="95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PHY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910120" y="1785960"/>
            <a:ext cx="1262160" cy="1730520"/>
            <a:chOff x="5910120" y="1785960"/>
            <a:chExt cx="1262160" cy="1730520"/>
          </a:xfrm>
        </p:grpSpPr>
        <p:grpSp>
          <p:nvGrpSpPr>
            <p:cNvPr id="293" name=""/>
            <p:cNvGrpSpPr/>
            <p:nvPr/>
          </p:nvGrpSpPr>
          <p:grpSpPr>
            <a:xfrm>
              <a:off x="6151680" y="2620800"/>
              <a:ext cx="769680" cy="622440"/>
              <a:chOff x="6151680" y="2620800"/>
              <a:chExt cx="769680" cy="622440"/>
            </a:xfrm>
          </p:grpSpPr>
          <p:sp>
            <p:nvSpPr>
              <p:cNvPr id="294" name=""/>
              <p:cNvSpPr/>
              <p:nvPr/>
            </p:nvSpPr>
            <p:spPr>
              <a:xfrm>
                <a:off x="6151680" y="3206520"/>
                <a:ext cx="769680" cy="36720"/>
              </a:xfrm>
              <a:custGeom>
                <a:avLst/>
                <a:gdLst/>
                <a:ahLst/>
                <a:rect l="l" t="t" r="r" b="b"/>
                <a:pathLst>
                  <a:path w="485" h="23">
                    <a:moveTo>
                      <a:pt x="462" y="0"/>
                    </a:moveTo>
                    <a:lnTo>
                      <a:pt x="0" y="0"/>
                    </a:lnTo>
                    <a:lnTo>
                      <a:pt x="23" y="23"/>
                    </a:lnTo>
                    <a:lnTo>
                      <a:pt x="485" y="2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84640" y="2620800"/>
                <a:ext cx="36360" cy="622440"/>
              </a:xfrm>
              <a:custGeom>
                <a:avLst/>
                <a:gdLst/>
                <a:ahLst/>
                <a:rect l="l" t="t" r="r" b="b"/>
                <a:pathLst>
                  <a:path w="23" h="392">
                    <a:moveTo>
                      <a:pt x="23" y="392"/>
                    </a:moveTo>
                    <a:lnTo>
                      <a:pt x="0" y="369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51680" y="2620800"/>
                <a:ext cx="732960" cy="585720"/>
              </a:xfrm>
              <a:prstGeom prst="rect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15120" y="2752560"/>
                <a:ext cx="397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10/100M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MAC</a:t>
                </a:r>
                <a:endParaRPr b="0" lang="en-US" sz="8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391440" y="3259080"/>
              <a:ext cx="291960" cy="25740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39" y="41"/>
                  </a:moveTo>
                  <a:lnTo>
                    <a:pt x="184" y="41"/>
                  </a:lnTo>
                  <a:lnTo>
                    <a:pt x="92" y="0"/>
                  </a:lnTo>
                  <a:lnTo>
                    <a:pt x="0" y="41"/>
                  </a:lnTo>
                  <a:lnTo>
                    <a:pt x="46" y="41"/>
                  </a:lnTo>
                  <a:lnTo>
                    <a:pt x="46" y="121"/>
                  </a:lnTo>
                  <a:lnTo>
                    <a:pt x="0" y="121"/>
                  </a:lnTo>
                  <a:lnTo>
                    <a:pt x="92" y="162"/>
                  </a:lnTo>
                  <a:lnTo>
                    <a:pt x="184" y="121"/>
                  </a:lnTo>
                  <a:lnTo>
                    <a:pt x="139" y="121"/>
                  </a:lnTo>
                  <a:lnTo>
                    <a:pt x="139" y="41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34280" y="2146320"/>
              <a:ext cx="210960" cy="466560"/>
            </a:xfrm>
            <a:prstGeom prst="upDownArrow">
              <a:avLst>
                <a:gd name="adj1" fmla="val 50000"/>
                <a:gd name="adj2" fmla="val 4402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10120" y="1785960"/>
              <a:ext cx="1262160" cy="314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1e64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08840" y="1814400"/>
              <a:ext cx="95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e64"/>
                  </a:solidFill>
                  <a:latin typeface="Arial"/>
                  <a:ea typeface="新細明體"/>
                </a:rPr>
                <a:t>MII/GPSI</a:t>
              </a:r>
              <a:endParaRPr b="0" lang="en-US" sz="1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5840" y="1979640"/>
            <a:ext cx="2936880" cy="1531800"/>
            <a:chOff x="2625840" y="1979640"/>
            <a:chExt cx="2936880" cy="1531800"/>
          </a:xfrm>
        </p:grpSpPr>
        <p:grpSp>
          <p:nvGrpSpPr>
            <p:cNvPr id="303" name=""/>
            <p:cNvGrpSpPr/>
            <p:nvPr/>
          </p:nvGrpSpPr>
          <p:grpSpPr>
            <a:xfrm>
              <a:off x="4241880" y="2049480"/>
              <a:ext cx="1320840" cy="915840"/>
              <a:chOff x="4241880" y="2049480"/>
              <a:chExt cx="1320840" cy="915840"/>
            </a:xfrm>
          </p:grpSpPr>
          <p:sp>
            <p:nvSpPr>
              <p:cNvPr id="304" name=""/>
              <p:cNvSpPr/>
              <p:nvPr/>
            </p:nvSpPr>
            <p:spPr>
              <a:xfrm>
                <a:off x="4241880" y="2928960"/>
                <a:ext cx="1320840" cy="36360"/>
              </a:xfrm>
              <a:custGeom>
                <a:avLst/>
                <a:gdLst/>
                <a:ahLst/>
                <a:rect l="l" t="t" r="r" b="b"/>
                <a:pathLst>
                  <a:path w="832" h="23">
                    <a:moveTo>
                      <a:pt x="809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832" y="23"/>
                    </a:lnTo>
                    <a:lnTo>
                      <a:pt x="809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26360" y="2049480"/>
                <a:ext cx="36360" cy="915840"/>
              </a:xfrm>
              <a:custGeom>
                <a:avLst/>
                <a:gdLst/>
                <a:ahLst/>
                <a:rect l="l" t="t" r="r" b="b"/>
                <a:pathLst>
                  <a:path w="23" h="577">
                    <a:moveTo>
                      <a:pt x="23" y="577"/>
                    </a:moveTo>
                    <a:lnTo>
                      <a:pt x="0" y="554"/>
                    </a:lnTo>
                    <a:lnTo>
                      <a:pt x="0" y="0"/>
                    </a:lnTo>
                    <a:lnTo>
                      <a:pt x="23" y="22"/>
                    </a:lnTo>
                    <a:lnTo>
                      <a:pt x="23" y="577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41880" y="2049480"/>
                <a:ext cx="1284480" cy="879480"/>
              </a:xfrm>
              <a:prstGeom prst="rect">
                <a:avLst/>
              </a:prstGeom>
              <a:solidFill>
                <a:srgbClr val="cc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80040" y="2230560"/>
                <a:ext cx="1244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(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Address Lookup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27440" y="257004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Engine)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714840" y="2071800"/>
              <a:ext cx="485640" cy="2952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6" y="47"/>
                  </a:moveTo>
                  <a:lnTo>
                    <a:pt x="46" y="0"/>
                  </a:lnTo>
                  <a:lnTo>
                    <a:pt x="0" y="92"/>
                  </a:lnTo>
                  <a:lnTo>
                    <a:pt x="46" y="186"/>
                  </a:lnTo>
                  <a:lnTo>
                    <a:pt x="46" y="139"/>
                  </a:lnTo>
                  <a:lnTo>
                    <a:pt x="169" y="139"/>
                  </a:lnTo>
                  <a:lnTo>
                    <a:pt x="169" y="186"/>
                  </a:lnTo>
                  <a:lnTo>
                    <a:pt x="216" y="92"/>
                  </a:lnTo>
                  <a:lnTo>
                    <a:pt x="169" y="0"/>
                  </a:lnTo>
                  <a:lnTo>
                    <a:pt x="169" y="47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08160" y="2986200"/>
              <a:ext cx="292320" cy="525240"/>
            </a:xfrm>
            <a:custGeom>
              <a:avLst/>
              <a:gdLst/>
              <a:ahLst/>
              <a:rect l="l" t="t" r="r" b="b"/>
              <a:pathLst>
                <a:path w="184" h="971">
                  <a:moveTo>
                    <a:pt x="139" y="47"/>
                  </a:moveTo>
                  <a:lnTo>
                    <a:pt x="184" y="47"/>
                  </a:lnTo>
                  <a:lnTo>
                    <a:pt x="92" y="0"/>
                  </a:lnTo>
                  <a:lnTo>
                    <a:pt x="0" y="47"/>
                  </a:lnTo>
                  <a:lnTo>
                    <a:pt x="46" y="47"/>
                  </a:lnTo>
                  <a:lnTo>
                    <a:pt x="46" y="924"/>
                  </a:lnTo>
                  <a:lnTo>
                    <a:pt x="0" y="924"/>
                  </a:lnTo>
                  <a:lnTo>
                    <a:pt x="92" y="971"/>
                  </a:lnTo>
                  <a:lnTo>
                    <a:pt x="184" y="924"/>
                  </a:lnTo>
                  <a:lnTo>
                    <a:pt x="139" y="924"/>
                  </a:lnTo>
                  <a:lnTo>
                    <a:pt x="139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625840" y="2494080"/>
              <a:ext cx="1063440" cy="477720"/>
              <a:chOff x="2625840" y="2494080"/>
              <a:chExt cx="1063440" cy="477720"/>
            </a:xfrm>
          </p:grpSpPr>
          <p:sp>
            <p:nvSpPr>
              <p:cNvPr id="312" name=""/>
              <p:cNvSpPr/>
              <p:nvPr/>
            </p:nvSpPr>
            <p:spPr>
              <a:xfrm>
                <a:off x="2625840" y="2935440"/>
                <a:ext cx="1063440" cy="36360"/>
              </a:xfrm>
              <a:custGeom>
                <a:avLst/>
                <a:gdLst/>
                <a:ahLst/>
                <a:rect l="l" t="t" r="r" b="b"/>
                <a:pathLst>
                  <a:path w="670" h="23">
                    <a:moveTo>
                      <a:pt x="647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670" y="23"/>
                    </a:lnTo>
                    <a:lnTo>
                      <a:pt x="647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52920" y="2494080"/>
                <a:ext cx="36360" cy="477720"/>
              </a:xfrm>
              <a:custGeom>
                <a:avLst/>
                <a:gdLst/>
                <a:ahLst/>
                <a:rect l="l" t="t" r="r" b="b"/>
                <a:pathLst>
                  <a:path w="23" h="301">
                    <a:moveTo>
                      <a:pt x="23" y="301"/>
                    </a:moveTo>
                    <a:lnTo>
                      <a:pt x="0" y="278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01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25840" y="2494080"/>
                <a:ext cx="1027080" cy="441360"/>
              </a:xfrm>
              <a:prstGeom prst="rect">
                <a:avLst/>
              </a:prstGeom>
              <a:solidFill>
                <a:srgbClr val="00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46720" y="2511360"/>
                <a:ext cx="988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Packet Buffer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58760" y="271620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384 Kbit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4751280" y="2986200"/>
              <a:ext cx="292320" cy="525240"/>
            </a:xfrm>
            <a:custGeom>
              <a:avLst/>
              <a:gdLst/>
              <a:ahLst/>
              <a:rect l="l" t="t" r="r" b="b"/>
              <a:pathLst>
                <a:path w="184" h="971">
                  <a:moveTo>
                    <a:pt x="139" y="47"/>
                  </a:moveTo>
                  <a:lnTo>
                    <a:pt x="184" y="47"/>
                  </a:lnTo>
                  <a:lnTo>
                    <a:pt x="92" y="0"/>
                  </a:lnTo>
                  <a:lnTo>
                    <a:pt x="0" y="47"/>
                  </a:lnTo>
                  <a:lnTo>
                    <a:pt x="46" y="47"/>
                  </a:lnTo>
                  <a:lnTo>
                    <a:pt x="46" y="924"/>
                  </a:lnTo>
                  <a:lnTo>
                    <a:pt x="0" y="924"/>
                  </a:lnTo>
                  <a:lnTo>
                    <a:pt x="92" y="971"/>
                  </a:lnTo>
                  <a:lnTo>
                    <a:pt x="184" y="924"/>
                  </a:lnTo>
                  <a:lnTo>
                    <a:pt x="139" y="924"/>
                  </a:lnTo>
                  <a:lnTo>
                    <a:pt x="139" y="47"/>
                  </a:lnTo>
                  <a:close/>
                </a:path>
              </a:pathLst>
            </a:custGeom>
            <a:solidFill>
              <a:srgbClr val="9933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625840" y="1979640"/>
              <a:ext cx="1063440" cy="477720"/>
              <a:chOff x="2625840" y="1979640"/>
              <a:chExt cx="1063440" cy="477720"/>
            </a:xfrm>
          </p:grpSpPr>
          <p:sp>
            <p:nvSpPr>
              <p:cNvPr id="319" name=""/>
              <p:cNvSpPr/>
              <p:nvPr/>
            </p:nvSpPr>
            <p:spPr>
              <a:xfrm>
                <a:off x="2625840" y="2421000"/>
                <a:ext cx="1063440" cy="36360"/>
              </a:xfrm>
              <a:custGeom>
                <a:avLst/>
                <a:gdLst/>
                <a:ahLst/>
                <a:rect l="l" t="t" r="r" b="b"/>
                <a:pathLst>
                  <a:path w="670" h="23">
                    <a:moveTo>
                      <a:pt x="647" y="0"/>
                    </a:moveTo>
                    <a:lnTo>
                      <a:pt x="0" y="0"/>
                    </a:lnTo>
                    <a:lnTo>
                      <a:pt x="24" y="23"/>
                    </a:lnTo>
                    <a:lnTo>
                      <a:pt x="670" y="23"/>
                    </a:lnTo>
                    <a:lnTo>
                      <a:pt x="647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52560" y="1979640"/>
                <a:ext cx="36360" cy="477720"/>
              </a:xfrm>
              <a:custGeom>
                <a:avLst/>
                <a:gdLst/>
                <a:ahLst/>
                <a:rect l="l" t="t" r="r" b="b"/>
                <a:pathLst>
                  <a:path w="23" h="301">
                    <a:moveTo>
                      <a:pt x="23" y="301"/>
                    </a:moveTo>
                    <a:lnTo>
                      <a:pt x="0" y="278"/>
                    </a:lnTo>
                    <a:lnTo>
                      <a:pt x="0" y="0"/>
                    </a:lnTo>
                    <a:lnTo>
                      <a:pt x="23" y="23"/>
                    </a:lnTo>
                    <a:lnTo>
                      <a:pt x="23" y="301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25840" y="1979640"/>
                <a:ext cx="1026720" cy="441360"/>
              </a:xfrm>
              <a:prstGeom prst="rect">
                <a:avLst/>
              </a:prstGeom>
              <a:solidFill>
                <a:srgbClr val="99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47080" y="19969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AddressTable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58040" y="220176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2K Entry</a:t>
                </a:r>
                <a:endParaRPr b="0" lang="en-US" sz="1300" spc="-1" strike="noStrike">
                  <a:solidFill>
                    <a:srgbClr val="001e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7977240" y="1889280"/>
            <a:ext cx="880920" cy="422280"/>
            <a:chOff x="7977240" y="1889280"/>
            <a:chExt cx="880920" cy="422280"/>
          </a:xfrm>
        </p:grpSpPr>
        <p:sp>
          <p:nvSpPr>
            <p:cNvPr id="325" name=""/>
            <p:cNvSpPr/>
            <p:nvPr/>
          </p:nvSpPr>
          <p:spPr>
            <a:xfrm>
              <a:off x="7977240" y="2273400"/>
              <a:ext cx="880920" cy="38160"/>
            </a:xfrm>
            <a:custGeom>
              <a:avLst/>
              <a:gdLst/>
              <a:ahLst/>
              <a:rect l="l" t="t" r="r" b="b"/>
              <a:pathLst>
                <a:path w="555" h="24">
                  <a:moveTo>
                    <a:pt x="531" y="0"/>
                  </a:moveTo>
                  <a:lnTo>
                    <a:pt x="0" y="0"/>
                  </a:lnTo>
                  <a:lnTo>
                    <a:pt x="24" y="24"/>
                  </a:lnTo>
                  <a:lnTo>
                    <a:pt x="555" y="24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820000" y="1889280"/>
              <a:ext cx="38160" cy="422280"/>
            </a:xfrm>
            <a:custGeom>
              <a:avLst/>
              <a:gdLst/>
              <a:ahLst/>
              <a:rect l="l" t="t" r="r" b="b"/>
              <a:pathLst>
                <a:path w="24" h="266">
                  <a:moveTo>
                    <a:pt x="24" y="266"/>
                  </a:moveTo>
                  <a:lnTo>
                    <a:pt x="0" y="242"/>
                  </a:lnTo>
                  <a:lnTo>
                    <a:pt x="0" y="0"/>
                  </a:lnTo>
                  <a:lnTo>
                    <a:pt x="24" y="23"/>
                  </a:lnTo>
                  <a:lnTo>
                    <a:pt x="24" y="26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77240" y="1889280"/>
              <a:ext cx="842760" cy="3841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69760" y="19875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93C46/66</a:t>
              </a:r>
              <a:endParaRPr b="0" lang="en-US" sz="13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086680" y="3735360"/>
            <a:ext cx="623880" cy="422280"/>
            <a:chOff x="8086680" y="3735360"/>
            <a:chExt cx="623880" cy="422280"/>
          </a:xfrm>
        </p:grpSpPr>
        <p:sp>
          <p:nvSpPr>
            <p:cNvPr id="330" name=""/>
            <p:cNvSpPr/>
            <p:nvPr/>
          </p:nvSpPr>
          <p:spPr>
            <a:xfrm>
              <a:off x="8086680" y="4120920"/>
              <a:ext cx="623880" cy="36720"/>
            </a:xfrm>
            <a:custGeom>
              <a:avLst/>
              <a:gdLst/>
              <a:ahLst/>
              <a:rect l="l" t="t" r="r" b="b"/>
              <a:pathLst>
                <a:path w="393" h="23">
                  <a:moveTo>
                    <a:pt x="370" y="0"/>
                  </a:moveTo>
                  <a:lnTo>
                    <a:pt x="0" y="0"/>
                  </a:lnTo>
                  <a:lnTo>
                    <a:pt x="24" y="23"/>
                  </a:lnTo>
                  <a:lnTo>
                    <a:pt x="393" y="23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74200" y="3735360"/>
              <a:ext cx="36360" cy="422280"/>
            </a:xfrm>
            <a:custGeom>
              <a:avLst/>
              <a:gdLst/>
              <a:ahLst/>
              <a:rect l="l" t="t" r="r" b="b"/>
              <a:pathLst>
                <a:path w="23" h="266">
                  <a:moveTo>
                    <a:pt x="23" y="266"/>
                  </a:moveTo>
                  <a:lnTo>
                    <a:pt x="0" y="243"/>
                  </a:lnTo>
                  <a:lnTo>
                    <a:pt x="0" y="0"/>
                  </a:lnTo>
                  <a:lnTo>
                    <a:pt x="23" y="24"/>
                  </a:lnTo>
                  <a:lnTo>
                    <a:pt x="23" y="26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86680" y="3735360"/>
              <a:ext cx="587520" cy="385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5640" y="38336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LED</a:t>
              </a:r>
              <a:endParaRPr b="0" lang="en-US" sz="13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353360" y="4456080"/>
            <a:ext cx="368280" cy="34920"/>
          </a:xfrm>
          <a:custGeom>
            <a:avLst/>
            <a:gdLst/>
            <a:ahLst/>
            <a:rect l="l" t="t" r="r" b="b"/>
            <a:pathLst>
              <a:path w="232" h="22">
                <a:moveTo>
                  <a:pt x="209" y="0"/>
                </a:moveTo>
                <a:lnTo>
                  <a:pt x="0" y="0"/>
                </a:lnTo>
                <a:lnTo>
                  <a:pt x="24" y="22"/>
                </a:lnTo>
                <a:lnTo>
                  <a:pt x="232" y="22"/>
                </a:lnTo>
                <a:lnTo>
                  <a:pt x="209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4920" y="1870200"/>
            <a:ext cx="36720" cy="2620800"/>
          </a:xfrm>
          <a:custGeom>
            <a:avLst/>
            <a:gdLst/>
            <a:ahLst/>
            <a:rect l="l" t="t" r="r" b="b"/>
            <a:pathLst>
              <a:path w="23" h="1651">
                <a:moveTo>
                  <a:pt x="23" y="1651"/>
                </a:moveTo>
                <a:lnTo>
                  <a:pt x="0" y="1629"/>
                </a:lnTo>
                <a:lnTo>
                  <a:pt x="0" y="0"/>
                </a:lnTo>
                <a:lnTo>
                  <a:pt x="23" y="22"/>
                </a:lnTo>
                <a:lnTo>
                  <a:pt x="23" y="1651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53360" y="1870200"/>
            <a:ext cx="331560" cy="25858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00600" y="269064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84760" y="28083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86200" y="29257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86200" y="30430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84760" y="31608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87640" y="327672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84760" y="33940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86200" y="35132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endParaRPr b="0" lang="en-US" sz="8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84920" y="1954080"/>
            <a:ext cx="29232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46" y="45"/>
                </a:moveTo>
                <a:lnTo>
                  <a:pt x="46" y="0"/>
                </a:lnTo>
                <a:lnTo>
                  <a:pt x="0" y="92"/>
                </a:lnTo>
                <a:lnTo>
                  <a:pt x="46" y="184"/>
                </a:lnTo>
                <a:lnTo>
                  <a:pt x="46" y="137"/>
                </a:lnTo>
                <a:lnTo>
                  <a:pt x="139" y="137"/>
                </a:lnTo>
                <a:lnTo>
                  <a:pt x="139" y="184"/>
                </a:lnTo>
                <a:lnTo>
                  <a:pt x="184" y="92"/>
                </a:lnTo>
                <a:lnTo>
                  <a:pt x="139" y="0"/>
                </a:lnTo>
                <a:lnTo>
                  <a:pt x="139" y="45"/>
                </a:lnTo>
                <a:lnTo>
                  <a:pt x="46" y="45"/>
                </a:lnTo>
                <a:close/>
              </a:path>
            </a:pathLst>
          </a:custGeom>
          <a:solidFill>
            <a:srgbClr val="993300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84920" y="3789360"/>
            <a:ext cx="401760" cy="291960"/>
          </a:xfrm>
          <a:custGeom>
            <a:avLst/>
            <a:gdLst/>
            <a:ahLst/>
            <a:rect l="l" t="t" r="r" b="b"/>
            <a:pathLst>
              <a:path w="253" h="184">
                <a:moveTo>
                  <a:pt x="208" y="138"/>
                </a:moveTo>
                <a:lnTo>
                  <a:pt x="208" y="184"/>
                </a:lnTo>
                <a:lnTo>
                  <a:pt x="253" y="92"/>
                </a:lnTo>
                <a:lnTo>
                  <a:pt x="208" y="0"/>
                </a:lnTo>
                <a:lnTo>
                  <a:pt x="208" y="45"/>
                </a:lnTo>
                <a:lnTo>
                  <a:pt x="46" y="45"/>
                </a:lnTo>
                <a:lnTo>
                  <a:pt x="46" y="0"/>
                </a:lnTo>
                <a:lnTo>
                  <a:pt x="0" y="92"/>
                </a:lnTo>
                <a:lnTo>
                  <a:pt x="46" y="184"/>
                </a:lnTo>
                <a:lnTo>
                  <a:pt x="46" y="138"/>
                </a:lnTo>
                <a:lnTo>
                  <a:pt x="208" y="138"/>
                </a:lnTo>
                <a:close/>
              </a:path>
            </a:pathLst>
          </a:custGeom>
          <a:solidFill>
            <a:srgbClr val="993300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840880" y="19461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Arial"/>
                <a:ea typeface="新細明體"/>
              </a:rPr>
              <a:t>EEPROM I/F</a:t>
            </a:r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8086680" y="2766960"/>
            <a:ext cx="552600" cy="422280"/>
            <a:chOff x="8086680" y="2766960"/>
            <a:chExt cx="552600" cy="422280"/>
          </a:xfrm>
        </p:grpSpPr>
        <p:sp>
          <p:nvSpPr>
            <p:cNvPr id="349" name=""/>
            <p:cNvSpPr/>
            <p:nvPr/>
          </p:nvSpPr>
          <p:spPr>
            <a:xfrm>
              <a:off x="8086680" y="3154320"/>
              <a:ext cx="552600" cy="34920"/>
            </a:xfrm>
            <a:custGeom>
              <a:avLst/>
              <a:gdLst/>
              <a:ahLst/>
              <a:rect l="l" t="t" r="r" b="b"/>
              <a:pathLst>
                <a:path w="348" h="22">
                  <a:moveTo>
                    <a:pt x="324" y="0"/>
                  </a:moveTo>
                  <a:lnTo>
                    <a:pt x="0" y="0"/>
                  </a:lnTo>
                  <a:lnTo>
                    <a:pt x="24" y="22"/>
                  </a:lnTo>
                  <a:lnTo>
                    <a:pt x="348" y="22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01120" y="2766960"/>
              <a:ext cx="38160" cy="422280"/>
            </a:xfrm>
            <a:custGeom>
              <a:avLst/>
              <a:gdLst/>
              <a:ahLst/>
              <a:rect l="l" t="t" r="r" b="b"/>
              <a:pathLst>
                <a:path w="24" h="266">
                  <a:moveTo>
                    <a:pt x="24" y="266"/>
                  </a:moveTo>
                  <a:lnTo>
                    <a:pt x="0" y="244"/>
                  </a:lnTo>
                  <a:lnTo>
                    <a:pt x="0" y="0"/>
                  </a:lnTo>
                  <a:lnTo>
                    <a:pt x="24" y="25"/>
                  </a:lnTo>
                  <a:lnTo>
                    <a:pt x="24" y="26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86680" y="2766960"/>
              <a:ext cx="514440" cy="3873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78840" y="2865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8051</a:t>
              </a:r>
              <a:endParaRPr b="0" lang="en-US" sz="1300" spc="-1" strike="noStrike">
                <a:solidFill>
                  <a:srgbClr val="001e64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7684920" y="2565360"/>
            <a:ext cx="401760" cy="293760"/>
          </a:xfrm>
          <a:custGeom>
            <a:avLst/>
            <a:gdLst/>
            <a:ahLst/>
            <a:rect l="l" t="t" r="r" b="b"/>
            <a:pathLst>
              <a:path w="253" h="185">
                <a:moveTo>
                  <a:pt x="46" y="47"/>
                </a:moveTo>
                <a:lnTo>
                  <a:pt x="46" y="0"/>
                </a:lnTo>
                <a:lnTo>
                  <a:pt x="0" y="92"/>
                </a:lnTo>
                <a:lnTo>
                  <a:pt x="46" y="185"/>
                </a:lnTo>
                <a:lnTo>
                  <a:pt x="46" y="139"/>
                </a:lnTo>
                <a:lnTo>
                  <a:pt x="208" y="139"/>
                </a:lnTo>
                <a:lnTo>
                  <a:pt x="208" y="185"/>
                </a:lnTo>
                <a:lnTo>
                  <a:pt x="253" y="92"/>
                </a:lnTo>
                <a:lnTo>
                  <a:pt x="208" y="0"/>
                </a:lnTo>
                <a:lnTo>
                  <a:pt x="208" y="47"/>
                </a:lnTo>
                <a:lnTo>
                  <a:pt x="46" y="47"/>
                </a:lnTo>
                <a:close/>
              </a:path>
            </a:pathLst>
          </a:custGeom>
          <a:solidFill>
            <a:srgbClr val="993300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20920" y="257508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Arial"/>
                <a:ea typeface="新細明體"/>
              </a:rPr>
              <a:t>SMI I/F</a:t>
            </a:r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83480" y="3117960"/>
            <a:ext cx="401760" cy="293400"/>
          </a:xfrm>
          <a:custGeom>
            <a:avLst/>
            <a:gdLst/>
            <a:ahLst/>
            <a:rect l="l" t="t" r="r" b="b"/>
            <a:pathLst>
              <a:path w="253" h="185">
                <a:moveTo>
                  <a:pt x="46" y="47"/>
                </a:moveTo>
                <a:lnTo>
                  <a:pt x="46" y="0"/>
                </a:lnTo>
                <a:lnTo>
                  <a:pt x="0" y="92"/>
                </a:lnTo>
                <a:lnTo>
                  <a:pt x="46" y="185"/>
                </a:lnTo>
                <a:lnTo>
                  <a:pt x="46" y="139"/>
                </a:lnTo>
                <a:lnTo>
                  <a:pt x="208" y="139"/>
                </a:lnTo>
                <a:lnTo>
                  <a:pt x="208" y="185"/>
                </a:lnTo>
                <a:lnTo>
                  <a:pt x="253" y="92"/>
                </a:lnTo>
                <a:lnTo>
                  <a:pt x="208" y="0"/>
                </a:lnTo>
                <a:lnTo>
                  <a:pt x="208" y="47"/>
                </a:lnTo>
                <a:lnTo>
                  <a:pt x="46" y="47"/>
                </a:lnTo>
                <a:close/>
              </a:path>
            </a:pathLst>
          </a:custGeom>
          <a:solidFill>
            <a:srgbClr val="993300">
              <a:alpha val="5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e64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619120" y="312732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Arial"/>
                <a:ea typeface="新細明體"/>
              </a:rPr>
              <a:t>MDC/MDIO</a:t>
            </a:r>
            <a:endParaRPr b="0" lang="en-US" sz="1200" spc="-1" strike="noStrike">
              <a:solidFill>
                <a:srgbClr val="001e6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Infineon’s Strength in Low Port Switch Market 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31800" y="1388880"/>
            <a:ext cx="738360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Proven market presence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The ADM6996L is the currently on of the most popular solutions available in the market today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Equipment with Infineon deployed with the world’s leading networking companies</a:t>
            </a: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lexible 5 and 6 port solutions for use in a range of switches, routers and VoIP gateway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3240" y="236160"/>
            <a:ext cx="738180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Infineon COM Related Products  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151840" y="4950000"/>
            <a:ext cx="1095480" cy="820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088480" y="1954080"/>
            <a:ext cx="1141200" cy="855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582560" y="1297080"/>
            <a:ext cx="63122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rmAutofit/>
          </a:bodyPr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ADM7001/8 PHYs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ingle and 8-Port PHY controllers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mall footprint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ADM5120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Home Network Processor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OC (System-On-Chip) for home, SOHO, SME Gateways 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Multiple interfaces for flexible design possibilities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WildCard 802.11b/g WLAN Solution</a:t>
            </a:r>
            <a:endParaRPr b="0" lang="en-US" sz="18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State machine design for lower BOM and higher performance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1e64"/>
                </a:solidFill>
                <a:latin typeface="Arial"/>
              </a:rPr>
              <a:t>HW and SW completed total solution</a:t>
            </a: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  <a:p>
            <a:pPr lvl="1" marL="701640" indent="-2444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1e64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102520" y="3446640"/>
            <a:ext cx="111276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14:35:40Z</dcterms:created>
  <dc:creator>Michael McCannon/LB</dc:creator>
  <dc:description/>
  <dc:language>en-US</dc:language>
  <cp:lastModifiedBy>mccannon</cp:lastModifiedBy>
  <cp:lastPrinted>2001-03-21T11:17:34Z</cp:lastPrinted>
  <dcterms:modified xsi:type="dcterms:W3CDTF">2005-02-23T05:15:21Z</dcterms:modified>
  <cp:revision>758</cp:revision>
  <dc:subject/>
  <dc:title>CP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11814303</vt:r8>
  </property>
  <property fmtid="{D5CDD505-2E9C-101B-9397-08002B2CF9AE}" pid="3" name="_AuthorEmail">
    <vt:lpwstr>Richard.Huang@infineon.com</vt:lpwstr>
  </property>
  <property fmtid="{D5CDD505-2E9C-101B-9397-08002B2CF9AE}" pid="4" name="_AuthorEmailDisplayName">
    <vt:lpwstr>Huang Richard (IFADM SD)</vt:lpwstr>
  </property>
  <property fmtid="{D5CDD505-2E9C-101B-9397-08002B2CF9AE}" pid="5" name="_EmailSubject">
    <vt:lpwstr>\\hsusdn03\other\Product_info_packages\CPE_CD</vt:lpwstr>
  </property>
  <property fmtid="{D5CDD505-2E9C-101B-9397-08002B2CF9AE}" pid="6" name="_PreviousAdHocReviewCycleID">
    <vt:r8>687188414</vt:r8>
  </property>
  <property fmtid="{D5CDD505-2E9C-101B-9397-08002B2CF9AE}" pid="7" name="_ReviewingToolsShownOnce">
    <vt:lpwstr/>
  </property>
</Properties>
</file>